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5863"/>
        <c:axId val="8059763"/>
      </c:barChart>
      <c:catAx>
        <c:axId val="81045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763"/>
        <c:crosses val="autoZero"/>
        <c:auto val="1"/>
        <c:lblAlgn val="ctr"/>
        <c:lblOffset val="100"/>
        <c:noMultiLvlLbl val="0"/>
      </c:catAx>
      <c:valAx>
        <c:axId val="8059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5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088-7AC9-4FC0-A81D-E61B6D3C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992-485F-4795-A8B0-AFBBC8CF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72F-547E-4B0F-B6D6-9045D24C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935-70E6-49FD-9F86-CEDE2989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D81-2F95-4AF6-B867-CEBC87D2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D13-2E8A-4328-8CAC-8DA67E12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6E5-1EEB-488B-93F7-6F82E5B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E8E-B86B-4683-AAC9-CEF4994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491-5ECD-4884-95CB-73EAAF2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FE8-6600-4123-8C3B-7B33F2B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FA5-4401-48C8-8846-F8E904C3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4E4-B489-45F2-BB5F-E7C7C9A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2464E-1316-4DC0-B94C-EDEED8BD43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