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485874"/>
        <c:axId val="8608408"/>
      </c:barChart>
      <c:catAx>
        <c:axId val="574858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08408"/>
        <c:crosses val="autoZero"/>
        <c:auto val="1"/>
        <c:lblAlgn val="ctr"/>
        <c:lblOffset val="100"/>
        <c:noMultiLvlLbl val="0"/>
      </c:catAx>
      <c:valAx>
        <c:axId val="86084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858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40FD-EA5B-4D69-984D-80D867343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F950-E2B4-49A9-B6C3-0A450FDA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C23A-553B-4F9D-ADBE-B6B59BA08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0CA0-17A3-44A6-A754-34EB176E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E4D4-E153-4803-96FE-2EE16BAD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537A-D682-457D-B624-CEDEBC44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D3E2-6DF7-40FB-967D-D326110F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0638-7192-4321-920D-D80FD820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E5EC-8D20-43E2-B897-933853F9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4A56-E209-4764-89FB-E273F824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1494-3B0A-440C-ADF8-F1E49C8E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DBA8-7647-46CC-8A3C-31EDF656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FB30F-1CFB-412C-BEDF-5CEDF3FE71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